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DB3-2341-433A-804B-B671C45D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A844-D81A-4351-A727-D2FA9D050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F2D2-5062-4F01-9E90-65CD3F85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0241-AAC0-4F6A-9F11-92A6496D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55A4-E5CB-4572-A930-3EAC66BB3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054C-FCE2-4A70-9C08-2D587A8A4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9B7-3807-4B8B-ABEA-94E74730A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C1F-DC63-4D19-86C7-915390B5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3CB-4DAF-4246-A081-01A501C6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083F-2C29-49EC-8D56-F434BD6B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3221-7CC9-490F-BB65-11EF3162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2E2-6A1B-48D4-972F-A02CC5B24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2CA-1F8E-43D1-A960-2B4B5D53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2F2-C407-415C-9325-BF62A9975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A0AF-B261-4005-B9E7-064DAE6F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77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835-500C-4849-B51C-2D2FDEA1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BA4-6299-4540-85E6-3CAAF527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F5F-859B-4E68-878A-2638FEA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B86-B1C6-4341-9C4F-E676C8F3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AD7-DA0B-4972-8B34-155F07E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673-F038-4CED-8271-7881459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151-54B1-443C-B005-6DF2406C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285-B469-408E-8295-9D69B58A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A99-ABA8-47B5-A6D6-F5D104E4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FE3-5972-4602-9603-66FD160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7F5-36F6-484E-AFDD-743BB41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5E8-0107-4CC6-8FD9-96BE9789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D793-B3F8-4BC5-A737-1BA3FCC73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4.xml"/><Relationship Id="rId3" Type="http://schemas.openxmlformats.org/officeDocument/2006/relationships/slide" Target="slide10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Curso de Reasegu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AIDA - Urugu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86080" y="4890960"/>
            <a:ext cx="61722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ontevideo - Uruguay, Septiembre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3640" y="60498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ec"/>
                </a:solidFill>
                <a:latin typeface="Times New Roman MT Extra Bold"/>
              </a:rPr>
              <a:t>Dra. Nancy Vil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295280" y="2514600"/>
            <a:ext cx="6782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9907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naturaleza del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1893960"/>
            <a:ext cx="70866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aseguro tiene todos los elementos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ato de seg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347976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és asegurable: el patrimonio del asegu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" y="431784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: el peligro que se produzca la obligación de pago - 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" y="507996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: prima de reasegu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" y="18939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6320" y="7621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naturaleza del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1523880"/>
            <a:ext cx="70866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trato de reaseguro reúne todos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racteres propios del segu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74320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eroso: requiere el pago d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" y="327492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ensual: perfeccionamiento por el mero consent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28292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ateral y sinalagmático: genera obligaciones recípro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529128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eatorio: la obligación del reaseguro está condicionada por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ncia de un hecho eve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1523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6299280"/>
            <a:ext cx="8915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 ejecución continuada o tracto suce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76320" y="838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naturaleza del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555920"/>
            <a:ext cx="89154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 contrato de adhesión: las partes está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de proponer, discutir y cambiar las cláus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352680"/>
            <a:ext cx="800100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 expuesto podemos concluir q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ato de reaseguros es un negocio asegu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ato de seguro y reaseguro son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aut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to de reaseguro está subordinado al de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seguro original y riesgo cubierto, falta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 e interés asegurable por parte del reaseg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447080" y="2675880"/>
            <a:ext cx="438120" cy="268200"/>
          </a:xfrm>
          <a:prstGeom prst="rightArrow">
            <a:avLst>
              <a:gd name="adj1" fmla="val 50000"/>
              <a:gd name="adj2" fmla="val 40839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320" y="94464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3652920"/>
            <a:ext cx="86868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una operación de seguro concertada por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egurador, por la que transfiere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iesgos asumidos o parte de las indemniz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pagar, cediendo parte de la prima o abon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 ello una prima al reasegurado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" y="2438280"/>
            <a:ext cx="868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seguro del riesgo asumido por el asegur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76320" y="838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riesgo cubi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523880"/>
            <a:ext cx="80010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ilidad de una disminución del patrimoni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segurado por tener que indemnizar a su asegura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consecuencia de un siniestro ocurrido dentr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o de un contrato de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708360"/>
            <a:ext cx="7925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iesgo no es la responsabilidad civil del asegu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4495680"/>
            <a:ext cx="82296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 remota: para el reasegurador es el siniestr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fre el asegurado de su reaseg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480" y="5746680"/>
            <a:ext cx="83822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 próxima: es la deuda que le nace a la reasegu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pagar el siniestro de su asegur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320" y="838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omunidad de sue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600200"/>
            <a:ext cx="60958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tuna técnica vs fortuna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971800"/>
            <a:ext cx="82296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asegurador seguirá el mismo compromiso que d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ir el asegurador con el riesgo por él asegur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" y="4127400"/>
            <a:ext cx="76201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igue la suerte comercial del asegu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14400" y="5423040"/>
            <a:ext cx="70866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concluir entonce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asegurador sólo debe seguir la fortuna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u reaseg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5400000">
            <a:off x="3761280" y="4822200"/>
            <a:ext cx="438120" cy="268200"/>
          </a:xfrm>
          <a:prstGeom prst="rightArrow">
            <a:avLst>
              <a:gd name="adj1" fmla="val 50000"/>
              <a:gd name="adj2" fmla="val 40839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2286000"/>
            <a:ext cx="80773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llow the fortune - follow settlements (Exxon Vald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76320" y="990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máxima buena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031840"/>
            <a:ext cx="72388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ase es la creencia, la probidad y la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3048120"/>
            <a:ext cx="76201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eguro la lealtad gravita especialmente en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mentos precontrac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4375080"/>
            <a:ext cx="80010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reaseguro es similar, pero por ser entre exp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implícit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80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ligaciones y cargas del asegurador reasegur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8080" y="1371600"/>
            <a:ext cx="655344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ar 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r en tiempo y forma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er la política asegu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29336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2819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ligaciones y cargas del reasegu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3505320"/>
            <a:ext cx="3733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ar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280" y="40006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3886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ligaciones ante la autoridad de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4510080"/>
            <a:ext cx="739152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r de informar los cut off, anulación o res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gar los contratos a las ced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áusula de insolv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hibición de que haya condición resolutori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ta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04920" y="10288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laciones derivadas del con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14400" y="1670040"/>
            <a:ext cx="79246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urante la vigencia del contrato el reasegurador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ech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información sobre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llegar a revisar los libros de la ced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4000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14400" y="38862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vención especial del reasegu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4718160"/>
            <a:ext cx="78487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activa en la liquidación de los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áusula de control y cooperación de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tos fro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5620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9144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entación general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882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914400" y="40892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s técnicas de seguros y reasegur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03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914400" y="2768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rato de rea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524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914400" y="5410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ratos de Reaseguros Automát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ograma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140976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14400" y="12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falencia de las pa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2108160"/>
            <a:ext cx="5715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ación de asegur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" y="3276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38080" y="31622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luridad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14400" y="4000680"/>
            <a:ext cx="792468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normal por el principio de atomización del riesg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que sean varios los reaseguradores que ent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tro de un contrato oblig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5613480"/>
            <a:ext cx="7924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coreaseguro con las caraterísticas del co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28600" y="10857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971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bi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8080" y="1708200"/>
            <a:ext cx="82296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mente oblig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s características se consignan en el contrato gen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30099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80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diciones para ser arb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3819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3705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tros medios de dirimir los confli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14400" y="446724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ción con exp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ación jud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6320" y="1143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cencia - Errores y omisiones - Pena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3808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tractual y durante la liquidación de sinie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080" y="3429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de los m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463392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hazo de sinies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easeguro por denuncia tard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762120" y="19810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contrato de segur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de responsabilidad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4097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2120" y="1295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turaleza jurídica del contrato de rea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" y="3543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120" y="342900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ibles consecuencias jurídicas de una u otra interpr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48387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2120" y="4724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 de acción del aseg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2120" y="5334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ien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contrato de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c1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447920" y="2590920"/>
            <a:ext cx="617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1917720"/>
            <a:ext cx="83059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fic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iesgos - gran número de asegu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alores a riesgos homogéneos (p.e.: 100.000 - 20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sición homogénea - calidad homogénea del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p.e.: edificios de ciertas caractérist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zo del seguro suficiente (p.e.: 1 añ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ersión física (p.e.: distintas ciu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iesgo específico (p.e.: incen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" action="ppaction://hlinksldjump"/>
          </p:cNvPr>
          <p:cNvSpPr/>
          <p:nvPr/>
        </p:nvSpPr>
        <p:spPr>
          <a:xfrm>
            <a:off x="76320" y="990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diciones necesar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838080" y="5451480"/>
            <a:ext cx="6553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iedad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os valore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 los bienes asegur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1636560"/>
            <a:ext cx="2210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í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" action="ppaction://hlinksldjump"/>
          </p:cNvPr>
          <p:cNvSpPr/>
          <p:nvPr/>
        </p:nvSpPr>
        <p:spPr>
          <a:xfrm>
            <a:off x="76320" y="92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es advers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8280" y="2351160"/>
            <a:ext cx="236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724280" y="2139840"/>
          <a:ext cx="1752840" cy="94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139840"/>
                    <a:ext cx="17528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800600" y="3282840"/>
          <a:ext cx="1676520" cy="901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282840"/>
                    <a:ext cx="1676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2438280" y="3473280"/>
            <a:ext cx="236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451656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umulación en el espa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>
            <a:hlinkClick r:id="rId1" action="ppaction://hlinksldjump"/>
          </p:cNvPr>
          <p:cNvSpPr/>
          <p:nvPr/>
        </p:nvSpPr>
        <p:spPr>
          <a:xfrm>
            <a:off x="457200" y="1111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herramient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 nos permite eliminar los factores adversos 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441972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El Reaseg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5400000">
            <a:off x="3962520" y="278136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990720" y="1905120"/>
            <a:ext cx="76197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izar las ex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r la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r los desví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cuenc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sid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ta de experiencia sobre 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ndo el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es suficientemente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38080" y="92880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qué sirve el rease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11048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85800" y="1752480"/>
            <a:ext cx="8534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 de desvíos probables en una carter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9144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ión del rease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2525760"/>
            <a:ext cx="906768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del patrimonio propio y el volume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pr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09480" y="5200560"/>
            <a:ext cx="8001000" cy="1332000"/>
            <a:chOff x="609480" y="5200560"/>
            <a:chExt cx="8001000" cy="1332000"/>
          </a:xfrm>
        </p:grpSpPr>
        <p:sp>
          <p:nvSpPr>
            <p:cNvPr id="782" name=""/>
            <p:cNvSpPr/>
            <p:nvPr/>
          </p:nvSpPr>
          <p:spPr>
            <a:xfrm>
              <a:off x="1714680" y="5200560"/>
              <a:ext cx="5790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Objetivo último del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reaseguro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5715000"/>
              <a:ext cx="80010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 cumplir una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Arial"/>
                </a:rPr>
                <a:t>función de estabilización técn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Arial"/>
                </a:rPr>
                <a:t>y financiera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respecto de las asegurado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rot="5400000">
            <a:off x="3772080" y="384804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51460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Presentación general del 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447920" y="2209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320" y="109692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alidade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426708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no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320040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eguros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5334120"/>
            <a:ext cx="541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eguros de sinies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3860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4441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gradFill rotWithShape="0">
            <a:gsLst>
              <a:gs pos="0">
                <a:srgbClr val="c0c0c0"/>
              </a:gs>
              <a:gs pos="100000">
                <a:srgbClr val="0000ec"/>
              </a:gs>
            </a:gsLst>
            <a:lin ang="10800000"/>
          </a:grad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76320" y="83808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alidade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2446200"/>
            <a:ext cx="8229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berturas de riesg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la medida que el asegurador directo -compañía de seguros- transfiere al reasegurador una determinada porción de las obligaciones que ha asumido con las coberturas otorgadas (póliz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5029200"/>
            <a:ext cx="8153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berturas de sinies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que amparan la caja del asegurador directo -compañía de seguros- cuando éste debe realizar un pago neto por siniestro superior a un  determinado impor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52280" y="1671480"/>
            <a:ext cx="8458200" cy="519120"/>
            <a:chOff x="152280" y="1671480"/>
            <a:chExt cx="8458200" cy="519120"/>
          </a:xfrm>
        </p:grpSpPr>
        <p:sp>
          <p:nvSpPr>
            <p:cNvPr id="798" name=""/>
            <p:cNvSpPr/>
            <p:nvPr/>
          </p:nvSpPr>
          <p:spPr>
            <a:xfrm>
              <a:off x="533520" y="1671480"/>
              <a:ext cx="8076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aseguros proporcionales - Reaseg de riesgo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2280" y="1805040"/>
              <a:ext cx="381240" cy="252360"/>
            </a:xfrm>
            <a:prstGeom prst="rightArrow">
              <a:avLst>
                <a:gd name="adj1" fmla="val 50000"/>
                <a:gd name="adj2" fmla="val 377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2280" y="4254480"/>
            <a:ext cx="9372600" cy="519120"/>
            <a:chOff x="152280" y="4254480"/>
            <a:chExt cx="9372600" cy="519120"/>
          </a:xfrm>
        </p:grpSpPr>
        <p:sp>
          <p:nvSpPr>
            <p:cNvPr id="801" name=""/>
            <p:cNvSpPr/>
            <p:nvPr/>
          </p:nvSpPr>
          <p:spPr>
            <a:xfrm>
              <a:off x="533520" y="4254480"/>
              <a:ext cx="89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aseguros no proporcionales - Reaseg de sinie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2280" y="4387680"/>
              <a:ext cx="381240" cy="252720"/>
            </a:xfrm>
            <a:prstGeom prst="rightArrow">
              <a:avLst>
                <a:gd name="adj1" fmla="val 50000"/>
                <a:gd name="adj2" fmla="val 3771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76320" y="117324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mas ope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066680" y="2468520"/>
            <a:ext cx="3353040" cy="579960"/>
            <a:chOff x="1066680" y="2468520"/>
            <a:chExt cx="3353040" cy="579960"/>
          </a:xfrm>
        </p:grpSpPr>
        <p:sp>
          <p:nvSpPr>
            <p:cNvPr id="807" name=""/>
            <p:cNvSpPr/>
            <p:nvPr/>
          </p:nvSpPr>
          <p:spPr>
            <a:xfrm>
              <a:off x="1828800" y="2468520"/>
              <a:ext cx="2590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cultativ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66680" y="264492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143000" y="4449600"/>
            <a:ext cx="2895480" cy="579960"/>
            <a:chOff x="1143000" y="4449600"/>
            <a:chExt cx="2895480" cy="579960"/>
          </a:xfrm>
        </p:grpSpPr>
        <p:sp>
          <p:nvSpPr>
            <p:cNvPr id="810" name=""/>
            <p:cNvSpPr/>
            <p:nvPr/>
          </p:nvSpPr>
          <p:spPr>
            <a:xfrm>
              <a:off x="1828800" y="4449600"/>
              <a:ext cx="2209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43000" y="462456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76320" y="83808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mas ope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447560" y="2055960"/>
            <a:ext cx="6095880" cy="14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to Individua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ífico, por el c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ubre una determinada operación, u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sentido materi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38080" y="4343400"/>
            <a:ext cx="7239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to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r el cual se establece para un período de tiemp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, condiciones,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ligac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ircunstancias bajo las cuales ambas partes convienen cubri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seguro,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 conjunto de operaciones futuras a concertar por el asegurador dir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04920" y="1447920"/>
            <a:ext cx="3047760" cy="519120"/>
            <a:chOff x="304920" y="1447920"/>
            <a:chExt cx="3047760" cy="519120"/>
          </a:xfrm>
        </p:grpSpPr>
        <p:sp>
          <p:nvSpPr>
            <p:cNvPr id="818" name=""/>
            <p:cNvSpPr/>
            <p:nvPr/>
          </p:nvSpPr>
          <p:spPr>
            <a:xfrm>
              <a:off x="762120" y="1447920"/>
              <a:ext cx="2590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lta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4920" y="1581120"/>
              <a:ext cx="380880" cy="252360"/>
            </a:xfrm>
            <a:prstGeom prst="rightArrow">
              <a:avLst>
                <a:gd name="adj1" fmla="val 50000"/>
                <a:gd name="adj2" fmla="val 3773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304920" y="3657600"/>
            <a:ext cx="2666880" cy="519120"/>
            <a:chOff x="304920" y="3657600"/>
            <a:chExt cx="2666880" cy="519120"/>
          </a:xfrm>
        </p:grpSpPr>
        <p:sp>
          <p:nvSpPr>
            <p:cNvPr id="821" name=""/>
            <p:cNvSpPr/>
            <p:nvPr/>
          </p:nvSpPr>
          <p:spPr>
            <a:xfrm>
              <a:off x="762120" y="3657600"/>
              <a:ext cx="220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4920" y="3792600"/>
              <a:ext cx="380880" cy="252360"/>
            </a:xfrm>
            <a:prstGeom prst="rightArrow">
              <a:avLst>
                <a:gd name="adj1" fmla="val 50000"/>
                <a:gd name="adj2" fmla="val 3773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ses técnicas de seguros y reaseg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00200" y="2362320"/>
            <a:ext cx="6553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Contratos de reaseguros Automátic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76320" y="109692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alidade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85800" y="2209680"/>
            <a:ext cx="6553080" cy="579960"/>
            <a:chOff x="685800" y="2209680"/>
            <a:chExt cx="6553080" cy="579960"/>
          </a:xfrm>
        </p:grpSpPr>
        <p:sp>
          <p:nvSpPr>
            <p:cNvPr id="830" name=""/>
            <p:cNvSpPr/>
            <p:nvPr/>
          </p:nvSpPr>
          <p:spPr>
            <a:xfrm>
              <a:off x="1447920" y="2209680"/>
              <a:ext cx="5790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aseguros propor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5800" y="23860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62120" y="4267080"/>
            <a:ext cx="7086600" cy="579960"/>
            <a:chOff x="762120" y="4267080"/>
            <a:chExt cx="7086600" cy="579960"/>
          </a:xfrm>
        </p:grpSpPr>
        <p:sp>
          <p:nvSpPr>
            <p:cNvPr id="833" name=""/>
            <p:cNvSpPr/>
            <p:nvPr/>
          </p:nvSpPr>
          <p:spPr>
            <a:xfrm>
              <a:off x="1447920" y="4267080"/>
              <a:ext cx="6400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aseguros no propor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120" y="4441680"/>
              <a:ext cx="533160" cy="228600"/>
            </a:xfrm>
            <a:prstGeom prst="right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00ec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132552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304812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ota parte (participación p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71600" y="471636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dentes (reaseguro de su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762120" y="2484360"/>
            <a:ext cx="7696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 a la cesión de un porcent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jo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e de todas y cada una de las pó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i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1295280"/>
            <a:ext cx="678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ta parte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(participación p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120" y="45864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ímite se establece en un valor mone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76320" y="91440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t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80880" y="2763720"/>
            <a:ext cx="8382240" cy="4094280"/>
            <a:chOff x="380880" y="2763720"/>
            <a:chExt cx="8382240" cy="4094280"/>
          </a:xfrm>
        </p:grpSpPr>
        <p:grpSp>
          <p:nvGrpSpPr>
            <p:cNvPr id="849" name=""/>
            <p:cNvGrpSpPr/>
            <p:nvPr/>
          </p:nvGrpSpPr>
          <p:grpSpPr>
            <a:xfrm>
              <a:off x="380880" y="2763720"/>
              <a:ext cx="8382240" cy="4094280"/>
              <a:chOff x="380880" y="2763720"/>
              <a:chExt cx="8382240" cy="4094280"/>
            </a:xfrm>
          </p:grpSpPr>
          <p:graphicFrame>
            <p:nvGraphicFramePr>
              <p:cNvPr id="850" name=""/>
              <p:cNvGraphicFramePr/>
              <p:nvPr/>
            </p:nvGraphicFramePr>
            <p:xfrm>
              <a:off x="617400" y="2763720"/>
              <a:ext cx="8145720" cy="40942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400" y="2763720"/>
                        <a:ext cx="8145720" cy="409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2" name=""/>
              <p:cNvSpPr/>
              <p:nvPr/>
            </p:nvSpPr>
            <p:spPr>
              <a:xfrm>
                <a:off x="3429000" y="6172200"/>
                <a:ext cx="1600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Suma Asegura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6200000">
                <a:off x="-266400" y="3999960"/>
                <a:ext cx="1600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Capac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 flipV="1">
              <a:off x="2286000" y="4557240"/>
              <a:ext cx="4724280" cy="76212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62320" y="4343400"/>
              <a:ext cx="1904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Arial"/>
                </a:rPr>
                <a:t>Reten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81080" y="6324480"/>
              <a:ext cx="5181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2133720" y="1692360"/>
            <a:ext cx="61722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20%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sión     : 80%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mite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33520" y="1471680"/>
            <a:ext cx="84582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ansfiere parte de la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umid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odas las pólizas sino en aquéllas cu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da supera la retención (Plen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685800"/>
            <a:ext cx="7696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dente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(reaseguro de su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4676760"/>
            <a:ext cx="853416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esión es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oporción reasegurada es diferente en cada póliz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pendiendo de la  relación entre suma asegurada y pl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119640"/>
            <a:ext cx="8458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límite se establece en números de p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3179880"/>
            <a:ext cx="84582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es un importe en valor absol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presenta el monto máximo que se está dis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afrontar en un siniestro 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875880"/>
            <a:ext cx="22860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Reinsu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nich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ss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kshire Hath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 I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rank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G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nnover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rling Global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loy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ia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ver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32440" y="838080"/>
            <a:ext cx="1658880" cy="61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Jul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+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BB+ (n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17640" y="837720"/>
            <a:ext cx="1625760" cy="62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5000"/>
              </a:lnSpc>
              <a:spcBef>
                <a:spcPts val="15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11 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52960" y="838080"/>
            <a:ext cx="12099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pr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BB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56320" y="838080"/>
            <a:ext cx="11541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insurers Down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553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2819520" y="1290600"/>
            <a:ext cx="53337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no:   4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mite: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4 plenos  =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6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idad:  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320" y="833400"/>
            <a:ext cx="342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6769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x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04920" y="2590920"/>
            <a:ext cx="8610480" cy="4038480"/>
            <a:chOff x="304920" y="2590920"/>
            <a:chExt cx="8610480" cy="4038480"/>
          </a:xfrm>
        </p:grpSpPr>
        <p:sp>
          <p:nvSpPr>
            <p:cNvPr id="870" name=""/>
            <p:cNvSpPr/>
            <p:nvPr/>
          </p:nvSpPr>
          <p:spPr>
            <a:xfrm>
              <a:off x="1143000" y="2819520"/>
              <a:ext cx="6705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1" name=""/>
            <p:cNvGraphicFramePr/>
            <p:nvPr/>
          </p:nvGraphicFramePr>
          <p:xfrm>
            <a:off x="609480" y="2590920"/>
            <a:ext cx="8305920" cy="4038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90920"/>
                      <a:ext cx="830592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3" name=""/>
            <p:cNvSpPr/>
            <p:nvPr/>
          </p:nvSpPr>
          <p:spPr>
            <a:xfrm>
              <a:off x="3809880" y="6324480"/>
              <a:ext cx="160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Suma Asegu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-342720" y="3847680"/>
              <a:ext cx="1600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pac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133720" y="5060520"/>
              <a:ext cx="1523880" cy="30492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57600" y="5060880"/>
              <a:ext cx="3733920" cy="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62320" y="4419720"/>
              <a:ext cx="2133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Arial"/>
                </a:rPr>
                <a:t>Reten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76320" y="1173240"/>
            <a:ext cx="617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eguros no propor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28600" y="236052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o de pérdida por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318276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o de pérdida por acontec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8600" y="40068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o de pérdida catastróf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8600" y="5653080"/>
            <a:ext cx="929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ción de siniestralidad – stop loss – por cedent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" y="48290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siniestralidad - stop loss - por r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066680" y="2209680"/>
            <a:ext cx="75438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re los siniestros pagados por enc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valor absoluto (Priorida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11430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/L por riesgo y/o ev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6680" y="383544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ede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4894200"/>
            <a:ext cx="80773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ga un cos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ultante de la estimación de primas a emitir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sición de la cartera y los siniestros produ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66680" y="2514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conformadas y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320" y="117324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/L por riesgo y/o event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- Ut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66680" y="378288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de escasa frecuencia sinies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66680" y="505296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uestas a siniestros de int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219320" y="1824120"/>
            <a:ext cx="66294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bertura de resultados anuales cu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iestralidad de un ramo sup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do porcentaje de las pri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udadas por el asegurador 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143000" y="2819520"/>
            <a:ext cx="6705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320" y="990720"/>
            <a:ext cx="3809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los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ato de reaseg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4400" y="5468760"/>
            <a:ext cx="7543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eras expuestas a severos desvíos d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cuencia siniestra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e int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320" y="4678200"/>
            <a:ext cx="510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loss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- Ut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c1"/>
            </a:gs>
            <a:gs pos="100000">
              <a:srgbClr val="0000e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2514600" y="6094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ec"/>
                </a:solidFill>
                <a:latin typeface="Times New Roman MT Extra Bold"/>
              </a:rPr>
              <a:t>Dra. Nancy Vil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95560" y="29718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24160" y="4952880"/>
            <a:ext cx="449568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studio Vilá &amp; Asociados - Abogados</a:t>
            </a: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Belgrano 313 5° y  6°  Piso - San Isidro</a:t>
            </a: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  Buenos Aires - República Argentina</a:t>
            </a: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+ 54 11 4732 1959 navila@sinectis.com.ar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0" lang="es-AR" sz="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TODOS LOS DERECHOS RESERVADO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rId1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9440" y="761760"/>
            <a:ext cx="9034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ñales de una corrección del mercado - 4to trimestr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51760" y="1444680"/>
            <a:ext cx="7584120" cy="5261040"/>
            <a:chOff x="851760" y="1444680"/>
            <a:chExt cx="7584120" cy="5261040"/>
          </a:xfrm>
        </p:grpSpPr>
        <p:sp>
          <p:nvSpPr>
            <p:cNvPr id="73" name=""/>
            <p:cNvSpPr/>
            <p:nvPr/>
          </p:nvSpPr>
          <p:spPr>
            <a:xfrm>
              <a:off x="1157400" y="531828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57400" y="505152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57400" y="477684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450216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7400" y="423540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57400" y="396072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57400" y="368604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343224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7400" y="314496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57400" y="287028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7400" y="260352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57400" y="2328840"/>
              <a:ext cx="727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57400" y="205416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57400" y="178740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7400" y="151272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57400" y="1512720"/>
              <a:ext cx="1440" cy="407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9240" y="559260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9240" y="531828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9240" y="505152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9240" y="477684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9240" y="450216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9240" y="423540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19240" y="396072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9240" y="368604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9240" y="341964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19240" y="314496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9240" y="287028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9240" y="260352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9240" y="2328840"/>
              <a:ext cx="38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9240" y="205416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19240" y="178740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9240" y="1512720"/>
              <a:ext cx="38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7400" y="5592600"/>
              <a:ext cx="7277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15740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6688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36844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97828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58128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19112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80060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40216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01200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61356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223040" y="5592600"/>
              <a:ext cx="18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82496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434440" y="5592600"/>
              <a:ext cx="144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61960" y="5264280"/>
              <a:ext cx="601920" cy="540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063880" y="5051160"/>
              <a:ext cx="609480" cy="2127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73360" y="4937040"/>
              <a:ext cx="609480" cy="1144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82840" y="4722480"/>
              <a:ext cx="603360" cy="2142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86200" y="4638600"/>
              <a:ext cx="609480" cy="842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95680" y="4151160"/>
              <a:ext cx="601920" cy="4874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097600" y="2922120"/>
              <a:ext cx="609480" cy="12286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07080" y="1893600"/>
              <a:ext cx="601560" cy="10285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8640" y="1893960"/>
              <a:ext cx="609840" cy="1602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918480" y="1839600"/>
              <a:ext cx="609480" cy="2142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461960" y="5187960"/>
              <a:ext cx="601920" cy="13032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063880" y="5103720"/>
              <a:ext cx="609480" cy="8424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673360" y="5019480"/>
              <a:ext cx="609480" cy="8388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82840" y="4829040"/>
              <a:ext cx="603360" cy="19080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86200" y="4744800"/>
              <a:ext cx="609480" cy="8388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95680" y="4692600"/>
              <a:ext cx="601920" cy="5256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97600" y="4638600"/>
              <a:ext cx="609480" cy="5400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707080" y="4501800"/>
              <a:ext cx="601560" cy="13644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308640" y="4448160"/>
              <a:ext cx="609840" cy="5400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918480" y="4425840"/>
              <a:ext cx="609480" cy="22320"/>
            </a:xfrm>
            <a:prstGeom prst="line">
              <a:avLst/>
            </a:prstGeom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61960" y="5211720"/>
              <a:ext cx="601920" cy="10656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063880" y="5127480"/>
              <a:ext cx="609480" cy="8424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673360" y="4997160"/>
              <a:ext cx="609480" cy="12996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282840" y="4829040"/>
              <a:ext cx="603360" cy="1684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86200" y="4668480"/>
              <a:ext cx="609480" cy="16020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495680" y="4371480"/>
              <a:ext cx="601920" cy="29700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097600" y="3990960"/>
              <a:ext cx="609480" cy="3808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707080" y="3769920"/>
              <a:ext cx="601560" cy="2206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308640" y="3555720"/>
              <a:ext cx="609840" cy="21420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18480" y="3387600"/>
              <a:ext cx="609480" cy="168480"/>
            </a:xfrm>
            <a:prstGeom prst="line">
              <a:avLst/>
            </a:prstGeom>
            <a:ln w="7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461960" y="5127480"/>
              <a:ext cx="601920" cy="190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063880" y="5089320"/>
              <a:ext cx="609480" cy="37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673360" y="4913280"/>
              <a:ext cx="609480" cy="1764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82840" y="4806720"/>
              <a:ext cx="603360" cy="1062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86200" y="4287960"/>
              <a:ext cx="609480" cy="5191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95680" y="3495240"/>
              <a:ext cx="601920" cy="7923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097600" y="2869920"/>
              <a:ext cx="609480" cy="6253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707080" y="2190600"/>
              <a:ext cx="601560" cy="679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308640" y="1809720"/>
              <a:ext cx="609840" cy="380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918480" y="1542600"/>
              <a:ext cx="609480" cy="266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461960" y="5293800"/>
              <a:ext cx="601920" cy="241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063880" y="5211360"/>
              <a:ext cx="609480" cy="8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673360" y="5073480"/>
              <a:ext cx="609480" cy="138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82840" y="4936680"/>
              <a:ext cx="603360" cy="136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86200" y="4776480"/>
              <a:ext cx="609480" cy="160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495680" y="4692600"/>
              <a:ext cx="601920" cy="84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097600" y="4287960"/>
              <a:ext cx="609480" cy="404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707080" y="3906360"/>
              <a:ext cx="601560" cy="381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308640" y="3525840"/>
              <a:ext cx="609840" cy="380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918480" y="3365280"/>
              <a:ext cx="609480" cy="160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461960" y="5264280"/>
              <a:ext cx="601920" cy="540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063880" y="5103720"/>
              <a:ext cx="609480" cy="16056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673360" y="4882680"/>
              <a:ext cx="609480" cy="2206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282840" y="4776480"/>
              <a:ext cx="603360" cy="1062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86200" y="4586040"/>
              <a:ext cx="609480" cy="19044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495680" y="4235040"/>
              <a:ext cx="601920" cy="3510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097600" y="3800520"/>
              <a:ext cx="609480" cy="4348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707080" y="3365640"/>
              <a:ext cx="601560" cy="4348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308640" y="3144600"/>
              <a:ext cx="609840" cy="22068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918480" y="2954160"/>
              <a:ext cx="609480" cy="190800"/>
            </a:xfrm>
            <a:prstGeom prst="line">
              <a:avLst/>
            </a:prstGeom>
            <a:ln w="79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461960" y="5264280"/>
              <a:ext cx="601920" cy="5400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063880" y="5241960"/>
              <a:ext cx="609480" cy="2232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73360" y="5103720"/>
              <a:ext cx="609480" cy="1382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282840" y="5019480"/>
              <a:ext cx="603360" cy="8388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86200" y="4883040"/>
              <a:ext cx="609480" cy="13680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495680" y="4554000"/>
              <a:ext cx="601920" cy="32868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097600" y="4181400"/>
              <a:ext cx="609480" cy="37296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07080" y="3852360"/>
              <a:ext cx="601560" cy="32868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08640" y="3715920"/>
              <a:ext cx="609840" cy="136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18480" y="3716280"/>
              <a:ext cx="609480" cy="2232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461960" y="5241960"/>
              <a:ext cx="601920" cy="7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063880" y="5187960"/>
              <a:ext cx="609480" cy="54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673360" y="5103720"/>
              <a:ext cx="60948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282840" y="4936680"/>
              <a:ext cx="60336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886200" y="4860720"/>
              <a:ext cx="609480" cy="7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95680" y="4311720"/>
              <a:ext cx="601920" cy="549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97600" y="4311720"/>
              <a:ext cx="60948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707080" y="4121280"/>
              <a:ext cx="601560" cy="357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08640" y="3906720"/>
              <a:ext cx="609840" cy="21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18480" y="3906720"/>
              <a:ext cx="60948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461960" y="5187960"/>
              <a:ext cx="601920" cy="13032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063880" y="5051160"/>
              <a:ext cx="609480" cy="1364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673360" y="4967280"/>
              <a:ext cx="609480" cy="842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282840" y="4586400"/>
              <a:ext cx="603360" cy="38088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886200" y="4502160"/>
              <a:ext cx="609480" cy="842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4150800"/>
              <a:ext cx="601920" cy="35100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097600" y="3686040"/>
              <a:ext cx="609480" cy="46512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707080" y="3387240"/>
              <a:ext cx="601560" cy="2984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08640" y="3304800"/>
              <a:ext cx="609840" cy="8244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18480" y="3281400"/>
              <a:ext cx="609480" cy="23760"/>
            </a:xfrm>
            <a:prstGeom prst="line">
              <a:avLst/>
            </a:prstGeom>
            <a:ln w="79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32080" y="528804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3640" y="523404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43120" y="501984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52960" y="490536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54520" y="46926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64000" y="460836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67360" y="412128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76840" y="2892600"/>
              <a:ext cx="60480" cy="61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19"/>
                  </a:lnTo>
                  <a:lnTo>
                    <a:pt x="19" y="3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8400" y="186372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88240" y="202392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32080" y="5288040"/>
              <a:ext cx="52200" cy="522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3640" y="515772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3120" y="507348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2960" y="4989600"/>
              <a:ext cx="5364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54520" y="479916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64000" y="471492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67360" y="4662360"/>
              <a:ext cx="52200" cy="5256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76840" y="4608360"/>
              <a:ext cx="5256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8400" y="4471920"/>
              <a:ext cx="54000" cy="5256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88240" y="4417920"/>
              <a:ext cx="54000" cy="540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32080" y="528804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3640" y="518004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3120" y="50958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52960" y="49672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4520" y="479916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4000" y="46386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7360" y="434196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76840" y="396072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78400" y="3738600"/>
              <a:ext cx="6048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88240" y="352584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32080" y="5288040"/>
              <a:ext cx="6012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33640" y="509580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3120" y="505764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52960" y="48830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54520" y="477684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64000" y="425772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0"/>
                  </a:moveTo>
                  <a:lnTo>
                    <a:pt x="39" y="19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67360" y="346392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76840" y="284004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8400" y="216072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88240" y="1779480"/>
              <a:ext cx="6012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38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497720" y="1512720"/>
              <a:ext cx="663480" cy="2935080"/>
              <a:chOff x="7497720" y="1512720"/>
              <a:chExt cx="663480" cy="293508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7527960" y="1733040"/>
                <a:ext cx="601560" cy="10620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527960" y="4257000"/>
                <a:ext cx="601560" cy="168120"/>
              </a:xfrm>
              <a:prstGeom prst="line">
                <a:avLst/>
              </a:prstGeom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527960" y="3144240"/>
                <a:ext cx="601560" cy="243000"/>
              </a:xfrm>
              <a:prstGeom prst="line">
                <a:avLst/>
              </a:prstGeom>
              <a:ln w="7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27960" y="1542600"/>
                <a:ext cx="601560" cy="7632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7527960" y="2921760"/>
                <a:ext cx="601560" cy="4431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527960" y="2900160"/>
                <a:ext cx="601560" cy="54000"/>
              </a:xfrm>
              <a:prstGeom prst="line">
                <a:avLst/>
              </a:prstGeom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527960" y="3579120"/>
                <a:ext cx="601560" cy="15876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27960" y="3990600"/>
                <a:ext cx="601560" cy="54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527960" y="3250800"/>
                <a:ext cx="601560" cy="30240"/>
              </a:xfrm>
              <a:prstGeom prst="line">
                <a:avLst/>
              </a:prstGeom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97720" y="18093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99280" y="17031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97720" y="4395600"/>
                <a:ext cx="54000" cy="5220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99280" y="4227120"/>
                <a:ext cx="54000" cy="5256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97720" y="33573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39"/>
                    </a:lnTo>
                    <a:lnTo>
                      <a:pt x="0" y="3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99280" y="311436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38"/>
                    </a:lnTo>
                    <a:lnTo>
                      <a:pt x="0" y="3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497720" y="1512720"/>
                <a:ext cx="60480" cy="601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99280" y="158868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432080" y="5288040"/>
              <a:ext cx="680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431720" y="5288040"/>
              <a:ext cx="29880" cy="30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61960" y="5318280"/>
              <a:ext cx="30240" cy="2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431720" y="5318280"/>
              <a:ext cx="29880" cy="2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461960" y="5288040"/>
              <a:ext cx="30240" cy="30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461960" y="5288040"/>
              <a:ext cx="1800" cy="302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61960" y="5318280"/>
              <a:ext cx="1800" cy="2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851760" y="1444680"/>
              <a:ext cx="7315920" cy="4422600"/>
              <a:chOff x="851760" y="1444680"/>
              <a:chExt cx="7315920" cy="4422600"/>
            </a:xfrm>
          </p:grpSpPr>
          <p:sp>
            <p:nvSpPr>
              <p:cNvPr id="275" name=""/>
              <p:cNvSpPr/>
              <p:nvPr/>
            </p:nvSpPr>
            <p:spPr>
              <a:xfrm>
                <a:off x="2033640" y="5263920"/>
                <a:ext cx="680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2033640" y="526356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63880" y="529416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033640" y="529416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063880" y="526356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2063880" y="526356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63880" y="5294160"/>
                <a:ext cx="14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43120" y="5179680"/>
                <a:ext cx="6840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2643120" y="517932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73360" y="521136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43120" y="521136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673360" y="517932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673360" y="5179320"/>
                <a:ext cx="14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521136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52960" y="5043240"/>
                <a:ext cx="680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252600" y="504288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82840" y="5073480"/>
                <a:ext cx="320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252600" y="5073480"/>
                <a:ext cx="2988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282840" y="5042880"/>
                <a:ext cx="320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282840" y="504288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2840" y="5073480"/>
                <a:ext cx="180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54520" y="4905000"/>
                <a:ext cx="6984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3854520" y="490464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86200" y="49366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854520" y="493668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886200" y="490464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886200" y="4904640"/>
                <a:ext cx="14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49366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64000" y="4744800"/>
                <a:ext cx="6984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4464000" y="4744440"/>
                <a:ext cx="3168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95680" y="47764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64000" y="4776480"/>
                <a:ext cx="316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495680" y="4744440"/>
                <a:ext cx="3024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495680" y="4744440"/>
                <a:ext cx="1800" cy="313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495680" y="477648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67360" y="4662360"/>
                <a:ext cx="680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5067360" y="466236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97600" y="469224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067360" y="469224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097600" y="4662360"/>
                <a:ext cx="2988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5097600" y="4662360"/>
                <a:ext cx="14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97600" y="469224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76840" y="4257360"/>
                <a:ext cx="6840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5676840" y="42570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07080" y="42876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676840" y="42876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707080" y="425700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707080" y="425700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07080" y="428760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78400" y="3876480"/>
                <a:ext cx="6840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6278400" y="387612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08640" y="390672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278400" y="390672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308640" y="387612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308640" y="387612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308640" y="3906720"/>
                <a:ext cx="180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88240" y="3495240"/>
                <a:ext cx="6804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6888240" y="34948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918480" y="352548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888240" y="35254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918480" y="349488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918480" y="34948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18480" y="35254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97720" y="3335040"/>
                <a:ext cx="6840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7497720" y="33346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27960" y="33652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497720" y="33652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7527960" y="333468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527960" y="33346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27960" y="3365280"/>
                <a:ext cx="14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099280" y="2892240"/>
                <a:ext cx="6840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8099280" y="2892240"/>
                <a:ext cx="3024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129520" y="2922120"/>
                <a:ext cx="31680" cy="316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099280" y="2922120"/>
                <a:ext cx="30240" cy="316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8129520" y="2892240"/>
                <a:ext cx="3168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129520" y="2892240"/>
                <a:ext cx="1800" cy="2952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129520" y="2922120"/>
                <a:ext cx="1800" cy="316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32080" y="5287680"/>
                <a:ext cx="52200" cy="518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33640" y="523368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43120" y="507348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52960" y="4852800"/>
                <a:ext cx="53640" cy="518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54520" y="474480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4000" y="455436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67360" y="4203360"/>
                <a:ext cx="522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3769920"/>
                <a:ext cx="5256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78400" y="3335040"/>
                <a:ext cx="5400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888240" y="3114360"/>
                <a:ext cx="5400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97720" y="2922120"/>
                <a:ext cx="54000" cy="536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099280" y="2869920"/>
                <a:ext cx="54000" cy="5184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32080" y="5287680"/>
                <a:ext cx="680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461960" y="528732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61960" y="531792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431720" y="5317920"/>
                <a:ext cx="298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461960" y="53179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33640" y="5233680"/>
                <a:ext cx="680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063880" y="523332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63880" y="526392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033640" y="52639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63880" y="5263920"/>
                <a:ext cx="316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43120" y="5211360"/>
                <a:ext cx="6840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673360" y="521100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73360" y="524160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643120" y="524160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73360" y="5241600"/>
                <a:ext cx="316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52960" y="5073480"/>
                <a:ext cx="6804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282840" y="5073480"/>
                <a:ext cx="180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82840" y="510336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3252600" y="5103360"/>
                <a:ext cx="298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282840" y="5103360"/>
                <a:ext cx="320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54520" y="4989240"/>
                <a:ext cx="698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886200" y="498888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200" y="5019480"/>
                <a:ext cx="144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854520" y="5019480"/>
                <a:ext cx="316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501948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64000" y="4852800"/>
                <a:ext cx="6984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495680" y="4852800"/>
                <a:ext cx="180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5680" y="488268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464000" y="4882680"/>
                <a:ext cx="316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95680" y="488268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67360" y="4524120"/>
                <a:ext cx="6804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5097600" y="452376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97600" y="4554360"/>
                <a:ext cx="144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067360" y="455436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97600" y="4554360"/>
                <a:ext cx="2988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6840" y="4151160"/>
                <a:ext cx="6840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5707080" y="4151160"/>
                <a:ext cx="144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7080" y="418104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676840" y="418104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07080" y="418104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78400" y="3822480"/>
                <a:ext cx="6840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308640" y="382212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08640" y="3852720"/>
                <a:ext cx="180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278400" y="38527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08640" y="385272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88240" y="3686040"/>
                <a:ext cx="68040" cy="676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918480" y="3686040"/>
                <a:ext cx="1440" cy="295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18480" y="371592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888240" y="371592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18480" y="3715920"/>
                <a:ext cx="298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97720" y="3708000"/>
                <a:ext cx="68400" cy="680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7527960" y="3707640"/>
                <a:ext cx="144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27960" y="3738240"/>
                <a:ext cx="144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497720" y="373824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27960" y="3738240"/>
                <a:ext cx="30240" cy="10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9280" y="3547800"/>
                <a:ext cx="68400" cy="694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8129520" y="3547440"/>
                <a:ext cx="1800" cy="3132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129520" y="3579480"/>
                <a:ext cx="1800" cy="2988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8099280" y="357948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129520" y="3579480"/>
                <a:ext cx="3168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61960" y="531000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63880" y="5233680"/>
                <a:ext cx="316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73360" y="5179680"/>
                <a:ext cx="316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282840" y="5095440"/>
                <a:ext cx="320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86200" y="492876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95680" y="485280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97600" y="4303440"/>
                <a:ext cx="298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07080" y="4471560"/>
                <a:ext cx="30240" cy="612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08640" y="411300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18480" y="3898440"/>
                <a:ext cx="29880" cy="792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27960" y="3982680"/>
                <a:ext cx="3024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29520" y="4036680"/>
                <a:ext cx="31680" cy="7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32080" y="5310000"/>
                <a:ext cx="601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33640" y="517968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43120" y="504324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52960" y="495900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54520" y="457812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64000" y="449388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67360" y="4143240"/>
                <a:ext cx="601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76840" y="3678120"/>
                <a:ext cx="6048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78400" y="3381120"/>
                <a:ext cx="60480" cy="612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88240" y="3296880"/>
                <a:ext cx="601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97720" y="3273120"/>
                <a:ext cx="6048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99280" y="3242880"/>
                <a:ext cx="61920" cy="75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20520" y="55227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51760" y="5249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1760" y="4981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51760" y="4706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1760" y="4433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1760" y="416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1760" y="389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51760" y="3617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1760" y="334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1760" y="3074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1760" y="2801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1760" y="2533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1760" y="2260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1760" y="19857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1760" y="17175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1760" y="1444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2436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82592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3720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4668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0 Q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4860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5808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5964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6912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1 Q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7104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2 Q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8052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2 Q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90000" y="57146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2 Q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7893360" y="571500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2002 Q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614600" y="6224760"/>
              <a:ext cx="5913360" cy="480960"/>
              <a:chOff x="1614600" y="6224760"/>
              <a:chExt cx="5913360" cy="480960"/>
            </a:xfrm>
          </p:grpSpPr>
          <p:sp>
            <p:nvSpPr>
              <p:cNvPr id="477" name=""/>
              <p:cNvSpPr/>
              <p:nvPr/>
            </p:nvSpPr>
            <p:spPr>
              <a:xfrm>
                <a:off x="1614600" y="6224760"/>
                <a:ext cx="5913360" cy="480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81360" y="6321600"/>
                <a:ext cx="252360" cy="1800"/>
              </a:xfrm>
              <a:prstGeom prst="line">
                <a:avLst/>
              </a:prstGeom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73160" y="628992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9" y="0"/>
                    </a:moveTo>
                    <a:lnTo>
                      <a:pt x="38" y="20"/>
                    </a:lnTo>
                    <a:lnTo>
                      <a:pt x="19" y="39"/>
                    </a:lnTo>
                    <a:lnTo>
                      <a:pt x="0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163600" y="6245640"/>
                <a:ext cx="50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vi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54520" y="6321600"/>
                <a:ext cx="252360" cy="1800"/>
              </a:xfrm>
              <a:prstGeom prst="line">
                <a:avLst/>
              </a:prstGeom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46680" y="6289920"/>
                <a:ext cx="54000" cy="54000"/>
              </a:xfrm>
              <a:prstGeom prst="rect">
                <a:avLst/>
              </a:prstGeom>
              <a:solidFill>
                <a:srgbClr val="ffff00"/>
              </a:solidFill>
              <a:ln w="7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37480" y="6245640"/>
                <a:ext cx="35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29480" y="6321600"/>
                <a:ext cx="250560" cy="1800"/>
              </a:xfrm>
              <a:prstGeom prst="line">
                <a:avLst/>
              </a:prstGeom>
              <a:ln w="7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19840" y="62899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0" y="0"/>
                    </a:moveTo>
                    <a:lnTo>
                      <a:pt x="39" y="39"/>
                    </a:lnTo>
                    <a:lnTo>
                      <a:pt x="0" y="3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09920" y="6245640"/>
                <a:ext cx="759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fess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81360" y="6474240"/>
                <a:ext cx="252360" cy="144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73160" y="6444000"/>
                <a:ext cx="60480" cy="601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163600" y="639792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54520" y="6474240"/>
                <a:ext cx="252360" cy="14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46680" y="6444000"/>
                <a:ext cx="6804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3946320" y="6444000"/>
                <a:ext cx="29880" cy="302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76560" y="6474240"/>
                <a:ext cx="3024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3946320" y="6474240"/>
                <a:ext cx="2988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3976560" y="6444000"/>
                <a:ext cx="30240" cy="302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976560" y="6444000"/>
                <a:ext cx="1800" cy="302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76560" y="6474240"/>
                <a:ext cx="1800" cy="298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37120" y="6397920"/>
                <a:ext cx="1210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n-Marine Lia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29480" y="6474240"/>
                <a:ext cx="250560" cy="1440"/>
              </a:xfrm>
              <a:prstGeom prst="line">
                <a:avLst/>
              </a:prstGeom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9840" y="6444000"/>
                <a:ext cx="54000" cy="52200"/>
              </a:xfrm>
              <a:prstGeom prst="ellipse">
                <a:avLst/>
              </a:prstGeom>
              <a:solidFill>
                <a:srgbClr val="ff99cc"/>
              </a:solidFill>
              <a:ln w="79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10640" y="6397920"/>
                <a:ext cx="91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perty Dir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881360" y="6618600"/>
                <a:ext cx="25236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73160" y="6588360"/>
                <a:ext cx="68400" cy="684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003400" y="6588360"/>
                <a:ext cx="1440" cy="302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3400" y="6618600"/>
                <a:ext cx="1440" cy="302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1973160" y="661860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03400" y="6618600"/>
                <a:ext cx="30240" cy="1440"/>
              </a:xfrm>
              <a:prstGeom prst="line">
                <a:avLst/>
              </a:prstGeom>
              <a:ln w="79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63960" y="6542280"/>
                <a:ext cx="407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r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54520" y="6618600"/>
                <a:ext cx="2523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76560" y="6610680"/>
                <a:ext cx="30240" cy="792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36760" y="6542280"/>
                <a:ext cx="1104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sonal Accid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29480" y="6618600"/>
                <a:ext cx="250560" cy="1440"/>
              </a:xfrm>
              <a:prstGeom prst="line">
                <a:avLst/>
              </a:prstGeom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19840" y="6610680"/>
                <a:ext cx="61920" cy="792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10280" y="65422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perty R/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7329600" y="1523880"/>
              <a:ext cx="976320" cy="311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ating de Primas del Lloyd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6553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60962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ctor reaseguros 1988-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77800" y="1676520"/>
            <a:ext cx="8261280" cy="4496040"/>
            <a:chOff x="577800" y="1676520"/>
            <a:chExt cx="8261280" cy="4496040"/>
          </a:xfrm>
        </p:grpSpPr>
        <p:sp>
          <p:nvSpPr>
            <p:cNvPr id="521" name=""/>
            <p:cNvSpPr/>
            <p:nvPr/>
          </p:nvSpPr>
          <p:spPr>
            <a:xfrm>
              <a:off x="577800" y="1676520"/>
              <a:ext cx="8261280" cy="4267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3200" y="402264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200" y="361476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3200" y="318456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3200" y="276552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3200" y="234936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3200" y="1928880"/>
              <a:ext cx="5187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2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8900000">
              <a:off x="106920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5520" y="1830240"/>
              <a:ext cx="1800" cy="23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63600" y="418464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3600" y="376236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63600" y="334008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63600" y="2917800"/>
              <a:ext cx="12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3600" y="2496960"/>
              <a:ext cx="12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63600" y="2050920"/>
              <a:ext cx="12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25520" y="4186080"/>
              <a:ext cx="6850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325520" y="412740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80972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30508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78928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27348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76884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25304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748040" y="4111560"/>
              <a:ext cx="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5232240" y="411156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716440" y="411156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211800" y="4111560"/>
              <a:ext cx="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696000" y="4111560"/>
              <a:ext cx="180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17876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675560" y="4111560"/>
              <a:ext cx="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8320" y="4111560"/>
              <a:ext cx="1440" cy="1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1568520" y="1830240"/>
              <a:ext cx="6332040" cy="2280960"/>
              <a:chOff x="1568520" y="1830240"/>
              <a:chExt cx="6332040" cy="228096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1568520" y="3553560"/>
                <a:ext cx="494640" cy="1360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2063160" y="3368160"/>
                <a:ext cx="484920" cy="18504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2548080" y="3206520"/>
                <a:ext cx="483480" cy="1612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3031920" y="3095280"/>
                <a:ext cx="494640" cy="1108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26560" y="3095280"/>
                <a:ext cx="484920" cy="24732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4011840" y="3206520"/>
                <a:ext cx="483120" cy="1360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94960" y="3206520"/>
                <a:ext cx="495000" cy="49680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89960" y="3703680"/>
                <a:ext cx="484920" cy="40752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475240" y="4025520"/>
                <a:ext cx="483120" cy="856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958720" y="3851640"/>
                <a:ext cx="495000" cy="17316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453720" y="3056040"/>
                <a:ext cx="483120" cy="79524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36840" y="3056400"/>
                <a:ext cx="483480" cy="180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7420680" y="1830240"/>
                <a:ext cx="479880" cy="122616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8158320" y="1830240"/>
              <a:ext cx="1440" cy="391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94600" y="5748480"/>
              <a:ext cx="1270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94600" y="511812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94600" y="449748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94600" y="3863880"/>
              <a:ext cx="12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94600" y="324324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94600" y="2611440"/>
              <a:ext cx="127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94600" y="1989000"/>
              <a:ext cx="12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568520" y="2598480"/>
              <a:ext cx="6346440" cy="2976480"/>
              <a:chOff x="1568520" y="2598480"/>
              <a:chExt cx="6346440" cy="2976480"/>
            </a:xfrm>
          </p:grpSpPr>
          <p:sp>
            <p:nvSpPr>
              <p:cNvPr id="575" name=""/>
              <p:cNvSpPr/>
              <p:nvPr/>
            </p:nvSpPr>
            <p:spPr>
              <a:xfrm>
                <a:off x="1568520" y="2797920"/>
                <a:ext cx="494280" cy="33372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62800" y="3131640"/>
                <a:ext cx="485280" cy="4230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48080" y="3555000"/>
                <a:ext cx="483840" cy="1188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31920" y="3567240"/>
                <a:ext cx="493920" cy="32292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3525840" y="3355200"/>
                <a:ext cx="485640" cy="5346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4011480" y="3219480"/>
                <a:ext cx="483480" cy="13608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495320" y="2673360"/>
                <a:ext cx="494280" cy="5454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89600" y="2673720"/>
                <a:ext cx="485280" cy="504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74880" y="2598480"/>
                <a:ext cx="483840" cy="12564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58720" y="2598840"/>
                <a:ext cx="494280" cy="3600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53360" y="2958840"/>
                <a:ext cx="483840" cy="6084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200" y="3567240"/>
                <a:ext cx="483480" cy="2970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20680" y="3864600"/>
                <a:ext cx="494280" cy="171036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 rot="18900000">
              <a:off x="15631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900000">
              <a:off x="20473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900000">
              <a:off x="253296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8900000">
              <a:off x="302508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35107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39967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449028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497448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546012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595224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643824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692244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7416000" y="4532400"/>
              <a:ext cx="4518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16000" y="5626080"/>
              <a:ext cx="47304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16000" y="4991040"/>
              <a:ext cx="3603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16000" y="4373640"/>
              <a:ext cx="36036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5280" y="3740040"/>
              <a:ext cx="2934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15280" y="3121200"/>
              <a:ext cx="2934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15280" y="2487600"/>
              <a:ext cx="40608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15280" y="1866960"/>
              <a:ext cx="40608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22840" y="4064040"/>
              <a:ext cx="1134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5840" y="5891040"/>
              <a:ext cx="65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639800" y="5867280"/>
              <a:ext cx="6058440" cy="305280"/>
              <a:chOff x="1639800" y="5867280"/>
              <a:chExt cx="6058440" cy="305280"/>
            </a:xfrm>
          </p:grpSpPr>
          <p:sp>
            <p:nvSpPr>
              <p:cNvPr id="611" name=""/>
              <p:cNvSpPr/>
              <p:nvPr/>
            </p:nvSpPr>
            <p:spPr>
              <a:xfrm>
                <a:off x="2076480" y="5867280"/>
                <a:ext cx="2276280" cy="305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Índice combinado (%)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60440" y="5883120"/>
                <a:ext cx="2737800" cy="274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endimiento de capital (%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19440" y="6019920"/>
                <a:ext cx="36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39800" y="6019920"/>
                <a:ext cx="3603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5" name=""/>
          <p:cNvSpPr/>
          <p:nvPr/>
        </p:nvSpPr>
        <p:spPr>
          <a:xfrm>
            <a:off x="76320" y="6553080"/>
            <a:ext cx="541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urce: S &amp; P Global Reinsurance Highlights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32080" y="6350040"/>
            <a:ext cx="360" cy="304920"/>
          </a:xfrm>
          <a:prstGeom prst="rect">
            <a:avLst/>
          </a:prstGeom>
          <a:solidFill>
            <a:srgbClr val="a0b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ndice combinado y rendimiento del capital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33520" y="190512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uropa Occi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mercado de capitales cayó alrede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de un 35% en el  año 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938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severas pérdidas por las inversiones redujeron el capital social de compañías de seguros (no-vid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Severas pérdidas por invers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96120" y="1752480"/>
            <a:ext cx="184788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$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  8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5959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s pérdidas por inversiones desde el año 2000 alcanzan casi US$ 200 mil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96120" y="3962520"/>
            <a:ext cx="184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  2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96120" y="5219640"/>
            <a:ext cx="184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 11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3505320"/>
            <a:ext cx="655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E.UU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mercado de capitales cayó en el o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de un 25% en el año 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51055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3747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uropa Occidental +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ma Directa como % del P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990720" y="957240"/>
          <a:ext cx="7391160" cy="55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57240"/>
                    <a:ext cx="739116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S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609480"/>
            <a:ext cx="9144000" cy="76320"/>
          </a:xfrm>
          <a:prstGeom prst="rect">
            <a:avLst/>
          </a:prstGeom>
          <a:solidFill>
            <a:srgbClr val="000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ima Directa Per Capita (en u$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urce: AS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57200" y="1019160"/>
          <a:ext cx="838188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19160"/>
                    <a:ext cx="83818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8839080" y="6629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8:19:00Z</dcterms:created>
  <dc:creator>Victoria Bunader</dc:creator>
  <dc:description/>
  <dc:language>en-US</dc:language>
  <cp:lastModifiedBy>Usuario</cp:lastModifiedBy>
  <cp:lastPrinted>2002-11-11T02:36:33Z</cp:lastPrinted>
  <dcterms:modified xsi:type="dcterms:W3CDTF">2004-11-09T22:11:00Z</dcterms:modified>
  <cp:revision>945</cp:revision>
  <dc:subject/>
  <dc:title>Presentación de PowerPoint</dc:title>
</cp:coreProperties>
</file>